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B811-7ED0-4288-BE38-9BD412590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400" y="3715920"/>
            <a:ext cx="86612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2588-7D28-4ED7-AD79-0F1151732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400" y="371592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0480" y="371592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9EF5-2AA4-4E77-9843-9E198D72B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0640" y="98280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39240" y="98280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00" y="371592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0640" y="371592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39240" y="371592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DE98-9686-4E86-9E9C-EC7CCE3A5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32000" y="230040"/>
            <a:ext cx="78120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2400" y="371592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F62B-9BBB-42DC-AFB2-759B3AC5B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0480" y="371592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400" y="3715920"/>
            <a:ext cx="86612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400" y="3715920"/>
            <a:ext cx="86612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400" y="371592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0480" y="371592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0640" y="98280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9240" y="98280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2400" y="371592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0640" y="371592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9240" y="3715920"/>
            <a:ext cx="278856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A5CB-0E2F-4CD8-9741-58CDFCCE3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3D1A-EF99-4E04-99C2-40AF167F4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79EE-2FF9-4CC2-8E17-26DB9106D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230040"/>
            <a:ext cx="78120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EF56-83A9-44AA-AFB1-51DAD6951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400" y="371592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AEB6-5743-4E05-BF9D-B2B5ED1FE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0480" y="371592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2711-F231-405D-86E1-F77CAB46F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0480" y="982800"/>
            <a:ext cx="4226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400" y="3715920"/>
            <a:ext cx="86612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0668-1D14-4E53-8630-26705FA1F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1" descr="Aplat-visuel-HtGche.jpg"/>
          <p:cNvPicPr/>
          <p:nvPr/>
        </p:nvPicPr>
        <p:blipFill>
          <a:blip r:embed="rId2"/>
          <a:stretch/>
        </p:blipFill>
        <p:spPr>
          <a:xfrm>
            <a:off x="0" y="0"/>
            <a:ext cx="1616040" cy="628560"/>
          </a:xfrm>
          <a:prstGeom prst="rect">
            <a:avLst/>
          </a:prstGeom>
          <a:ln w="0">
            <a:noFill/>
          </a:ln>
        </p:spPr>
      </p:pic>
      <p:pic>
        <p:nvPicPr>
          <p:cNvPr id="1" name="Image 2" descr="Filet-visuel-BasDte.jpg"/>
          <p:cNvPicPr/>
          <p:nvPr/>
        </p:nvPicPr>
        <p:blipFill>
          <a:blip r:embed="rId3"/>
          <a:stretch/>
        </p:blipFill>
        <p:spPr>
          <a:xfrm>
            <a:off x="6423120" y="6141960"/>
            <a:ext cx="2720880" cy="7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Click to edit the title text format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2" marL="892080" indent="-26820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3" marL="1081080" indent="-18900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4" marL="1085760" indent="-4680">
              <a:spcBef>
                <a:spcPts val="1199"/>
              </a:spcBef>
              <a:spcAft>
                <a:spcPts val="300"/>
              </a:spcAft>
              <a:buClr>
                <a:srgbClr val="969491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5" marL="1085760" indent="-468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6" marL="1085760" indent="-468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373440"/>
            <a:ext cx="48276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969491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AC6F-C4CB-42C4-87F2-D050D8495811}" type="slidenum">
              <a:rPr b="0" lang="fr-FR" sz="1000" spc="-1" strike="noStrike">
                <a:solidFill>
                  <a:srgbClr val="969491"/>
                </a:solidFill>
                <a:latin typeface="Century Gothic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cteur droit 2"/>
          <p:cNvSpPr/>
          <p:nvPr/>
        </p:nvSpPr>
        <p:spPr>
          <a:xfrm>
            <a:off x="590400" y="6356520"/>
            <a:ext cx="0" cy="215640"/>
          </a:xfrm>
          <a:prstGeom prst="line">
            <a:avLst/>
          </a:prstGeom>
          <a:ln w="9360">
            <a:solidFill>
              <a:srgbClr val="0034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576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7635960" y="6326280"/>
            <a:ext cx="127944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0" y="230040"/>
            <a:ext cx="7812000" cy="400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Click to edit the title text format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82400" y="972720"/>
            <a:ext cx="866124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2" marL="892080" indent="-26820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3" marL="1081080" indent="-18900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4" marL="1085760" indent="-4680">
              <a:spcBef>
                <a:spcPts val="1199"/>
              </a:spcBef>
              <a:spcAft>
                <a:spcPts val="300"/>
              </a:spcAft>
              <a:buClr>
                <a:srgbClr val="969491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5" marL="1085760" indent="-468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6" marL="1085760" indent="-4680">
              <a:spcBef>
                <a:spcPts val="1199"/>
              </a:spcBef>
              <a:spcAft>
                <a:spcPts val="300"/>
              </a:spcAft>
              <a:buClr>
                <a:srgbClr val="00357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108920" y="6016680"/>
            <a:ext cx="1639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8"/>
          <p:cNvSpPr/>
          <p:nvPr/>
        </p:nvSpPr>
        <p:spPr>
          <a:xfrm>
            <a:off x="311040" y="2535120"/>
            <a:ext cx="2911680" cy="358920"/>
          </a:xfrm>
          <a:prstGeom prst="parallelogram">
            <a:avLst>
              <a:gd name="adj" fmla="val 44242"/>
            </a:avLst>
          </a:prstGeom>
          <a:solidFill>
            <a:srgbClr val="0035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57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560" y="2568600"/>
            <a:ext cx="8569440" cy="301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Century Gothic"/>
              </a:rPr>
              <a:t>CECA Feuchy</a:t>
            </a:r>
            <a:endParaRPr b="1" lang="en-US" sz="22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9760" y="2846520"/>
            <a:ext cx="8904240" cy="17524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576"/>
                </a:solidFill>
                <a:latin typeface="Century Gothic"/>
              </a:rPr>
              <a:t>CSS du 31 mai 2013</a:t>
            </a:r>
            <a:endParaRPr b="1" lang="en-US" sz="40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800" y="229680"/>
            <a:ext cx="859608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SGS : Retour d’expérience sur les événements 2012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Analyse des plaintes: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1 en 2012 pour odeur d’ammoniac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Mise en œuvre de la communication à chaud : 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Aucun événement en 2012 n’a nécessité une communication à chaud.</a:t>
            </a: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Mise en œuvre du POI : Pas de déclenchement du POI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2012 : 2 exercices internes POI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1" lang="fr-FR" sz="2000" spc="-1" strike="noStrike">
                <a:solidFill>
                  <a:srgbClr val="003576"/>
                </a:solidFill>
                <a:latin typeface="Tahoma"/>
              </a:rPr>
              <a:t>           </a:t>
            </a:r>
            <a:r>
              <a:rPr b="1" lang="fr-FR" sz="2000" spc="-1" strike="noStrike">
                <a:solidFill>
                  <a:srgbClr val="003576"/>
                </a:solidFill>
                <a:latin typeface="Tahoma"/>
              </a:rPr>
              <a:t>Le 20 juin: exercice commun  avec le SDIS</a:t>
            </a:r>
            <a:endParaRPr b="1" lang="en-US" sz="20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SGS : Retour d’expérience sur les incidents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4978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Gestion des incidents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-26388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Procédure d’enregistrement, d’analyse et de suivi des incidents et accidents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-26388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194 événements enregistrés en 2012 (tout domaine : corporel, matériel, produit, environnement)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576"/>
              </a:solidFill>
              <a:latin typeface="Tahoma"/>
            </a:endParaRPr>
          </a:p>
          <a:p>
            <a:pPr lvl="1" marL="617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576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Sur  cet ensemble  : 9 événements ont été liés à la sécurité industrielle avec des conséquences potentiellement perceptibles de l’extérieur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3" marL="106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3" marL="106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30040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e3004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394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4680" y="2647800"/>
            <a:ext cx="79754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Les 9 événements 2012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4 dépassements sur les rejets à la Scarpe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1 plainte voisinage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2 problèmes techniques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ventilateur sur laveur NH3 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cuvette de rétention fuyarde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2 départs de feu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Arrêt par utilisation d’extincteur manuel par les opérateurs 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SGS inspections en 2012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3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576"/>
                </a:solidFill>
                <a:latin typeface="Tahoma"/>
              </a:rPr>
              <a:t>Juillet:</a:t>
            </a:r>
            <a:r>
              <a:rPr b="0" lang="fr-FR" sz="2000" spc="-1" strike="noStrike">
                <a:solidFill>
                  <a:srgbClr val="003576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inspection sur SGS / gestion des modifications et plan de modernisation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576"/>
                </a:solidFill>
                <a:latin typeface="Tahoma"/>
              </a:rPr>
              <a:t>Avril:</a:t>
            </a:r>
            <a:r>
              <a:rPr b="0" lang="fr-FR" sz="2000" spc="-1" strike="noStrike">
                <a:solidFill>
                  <a:srgbClr val="003576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contrôle inopiné des rejets aqueux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576"/>
                </a:solidFill>
                <a:latin typeface="Tahoma"/>
              </a:rPr>
              <a:t>Octobre:</a:t>
            </a:r>
            <a:r>
              <a:rPr b="0" lang="fr-FR" sz="2000" spc="-1" strike="noStrike">
                <a:solidFill>
                  <a:srgbClr val="003576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contrôle inopiné de mesure légionelle sur le circuit aéroréfrigérant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6373800"/>
            <a:ext cx="482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0525-C041-4AB3-B261-FE8DD8F370D7}" type="slidenum">
              <a:rPr b="0" lang="fr-FR" sz="1000" spc="-1" strike="noStrike">
                <a:solidFill>
                  <a:srgbClr val="969491"/>
                </a:solidFill>
                <a:latin typeface="Century Gothic"/>
                <a:ea typeface="Tahoma"/>
              </a:rPr>
              <a:t>&lt;number&gt;</a:t>
            </a:fld>
            <a:endParaRPr b="0" lang="en-US" sz="1000" spc="-1" strike="noStrike">
              <a:solidFill>
                <a:srgbClr val="00357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3576"/>
                </a:solidFill>
                <a:latin typeface="Century Gothic"/>
              </a:rPr>
              <a:t>CECA Feuchy: points clés 2012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Activité commerciale 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598680" indent="-255960">
              <a:spcBef>
                <a:spcPts val="18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Activité soutenue avec un ralentissement en fin d’année en parallèle avec l’ activité économique  générale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29040" indent="-329040">
              <a:spcBef>
                <a:spcPts val="1800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Activité technique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598680" indent="-255960">
              <a:spcBef>
                <a:spcPts val="18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Passage d’ une triple certification dont deux pour la première fois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29040" indent="-329040">
              <a:spcBef>
                <a:spcPts val="1800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Relationnel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598680" indent="-255960">
              <a:spcBef>
                <a:spcPts val="18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Trophée de l’ industrie délivrée par la Société des Ingénieurs du Nord  de la France pour l’ organisation d’une classe dans l’ usine avec le collège Marie Curie d’ Arras 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598680" indent="-255960">
              <a:spcBef>
                <a:spcPts val="18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598680" indent="-255960">
              <a:spcBef>
                <a:spcPts val="18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598680" indent="-255960">
              <a:spcBef>
                <a:spcPts val="18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29040" indent="-329040"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0" y="6373800"/>
            <a:ext cx="4827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30AC-88E3-4FE8-949B-81BD508015AC}" type="slidenum">
              <a:rPr b="0" lang="fr-FR" sz="1000" spc="-1" strike="noStrike">
                <a:solidFill>
                  <a:srgbClr val="969491"/>
                </a:solidFill>
                <a:latin typeface="Century Gothic"/>
                <a:ea typeface="Tahoma"/>
              </a:rPr>
              <a:t>&lt;number&gt;</a:t>
            </a:fld>
            <a:endParaRPr b="0" lang="en-US" sz="1000" spc="-1" strike="noStrike">
              <a:solidFill>
                <a:srgbClr val="0035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Bilan Sécurité – Environnement – Qualité 2012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1500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576"/>
                </a:solidFill>
                <a:latin typeface="Tahoma"/>
              </a:rPr>
              <a:t>Accidents du travail CECA et Entreprises Extérieures</a:t>
            </a: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576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3576"/>
                </a:solidFill>
                <a:latin typeface="Tahoma"/>
              </a:rPr>
              <a:t>2012: 1 accident avec arrêt ( 6j) pour brûlure à la main lors d’un contrôle analytique</a:t>
            </a: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</p:txBody>
      </p:sp>
      <p:graphicFrame>
        <p:nvGraphicFramePr>
          <p:cNvPr id="91" name="Espace réservé du texte 2"/>
          <p:cNvGraphicFramePr/>
          <p:nvPr/>
        </p:nvGraphicFramePr>
        <p:xfrm>
          <a:off x="1400040" y="1355760"/>
          <a:ext cx="6083280" cy="332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Espace réservé du text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0040" y="1355760"/>
                    <a:ext cx="6083280" cy="33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Bilan Sécurité – Environnement – Qualité 2012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Certification globale HSEQ  en 2012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ISO 9001 :  Qualité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ISO 14001 : Environnement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OHSAS 18001 : Sécurité 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AIMS :  Système de management intégrée ARKEMA /DNV 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Plan d’actions 2012 orienté sur le comportement, les bonnes pratiques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Audits spots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PAO: observations des gestes sûrs et à risque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Les Règles « Essentiels d’ARKEMA »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Arrêtés préfectoraux 2012 - 2013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Arrêté portant modification de la création du CLIC pour le site exploité par l’entreprise CECA Feuchy, du 3 février 2012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Arrêté de prolongation du délai d’approbation du PPRT, du 9 février 2012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Arrêté comportant modification de la composition du CLIC pour le site exploité par l’entreprise CECA Feuchy, du 28 novembre 2012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Arrêté de prolongation du délai d’approbation du PPRT, du 4 février 2013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Arrêté portant création d’une commission de suivi de site pour le site classé AS exploité par CECA sur le territoire de la commune de Feuchy, du 30 mars 2013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Arrêté portant nomination des membres de la Commission de Suivi de Site, du 29 mars 2013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576"/>
                </a:solidFill>
                <a:latin typeface="Tahoma"/>
              </a:rPr>
              <a:t>Arrêté fixant la période de concertation du public pour le PPRT CECA Feuchy, du 4 février 2013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Investissements sécurité 2012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400" y="982800"/>
            <a:ext cx="866124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Investissements réalisés sur 2012   :  </a:t>
            </a:r>
            <a:r>
              <a:rPr b="0" lang="en-US" sz="2400" spc="-1" strike="noStrike">
                <a:solidFill>
                  <a:srgbClr val="003576"/>
                </a:solidFill>
                <a:latin typeface="Tahoma"/>
              </a:rPr>
              <a:t>1176 k€</a:t>
            </a:r>
            <a:endParaRPr b="1" lang="en-US" sz="24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Réglementaire: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Confinement du stockage et du poste de dépotage ammoniac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Remplacement réglementaire d’appareils sous pression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Mise en conformité des aires de logés 2000, 3000, 4000 et parc acide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Inspection des cuvettes et inventaire des bacs : plan de modernisation phase 2012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Améliorations HSE :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Rénovation du réseau incendie stockage DMA7 et dépôt 30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576"/>
                </a:solidFill>
                <a:latin typeface="Tahoma"/>
              </a:rPr>
              <a:t>Renouvellement de divers matériels de lutte contre l’incendie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97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576"/>
                </a:solidFill>
                <a:latin typeface="Century Gothic"/>
              </a:rPr>
              <a:t>Prévisions investissements sécurité 2013</a:t>
            </a:r>
            <a:endParaRPr b="1" lang="en-US" sz="26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2400" y="982440"/>
            <a:ext cx="866124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Principaux investissements sécurité programmés: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Réglementaire: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Mise en place d’une cuvette déportée pour le dépôt DMA7 (PPRT)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Plan de modernisation phase  2013 :Visite des bacs , inventaire racks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Remise en état des bacs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Amélioration HSE: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Réfection de l’alimentation en mousse des déversoirs du dépôt 30</a:t>
            </a:r>
            <a:endParaRPr b="0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57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576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35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576"/>
                </a:solidFill>
                <a:latin typeface="Century Gothic"/>
              </a:rPr>
              <a:t>Bilan du Système de Gestion de la Sécurité (SGS) 2012</a:t>
            </a:r>
            <a:endParaRPr b="1" lang="en-US" sz="22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400" y="982440"/>
            <a:ext cx="78562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576"/>
                </a:solidFill>
                <a:latin typeface="Tahoma"/>
              </a:rPr>
              <a:t>Indicateurs:</a:t>
            </a: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576"/>
                </a:solidFill>
                <a:latin typeface="Tahoma"/>
              </a:rPr>
              <a:t>Dépassement objectif sur le rejet PK2: pb sur pompe reprise effluents ammoniacaux et flux à l’entrée de la station plus importants: changement pompe et installation en fixe entre bassin confinement et station </a:t>
            </a:r>
            <a:endParaRPr b="1" lang="en-US" sz="1400" spc="-1" strike="noStrike">
              <a:solidFill>
                <a:srgbClr val="003576"/>
              </a:solidFill>
              <a:latin typeface="Tahoma"/>
            </a:endParaRPr>
          </a:p>
          <a:p>
            <a:pPr marL="27432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576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4840" y="1424160"/>
            <a:ext cx="863136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229680"/>
            <a:ext cx="7812000" cy="3355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576"/>
                </a:solidFill>
                <a:latin typeface="Century Gothic"/>
              </a:rPr>
              <a:t>Bilan du Système de Gestion de la Sécurité (SGS) 2012</a:t>
            </a:r>
            <a:endParaRPr b="1" lang="en-US" sz="2200" spc="-1" strike="noStrike">
              <a:solidFill>
                <a:srgbClr val="00357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2400" y="982440"/>
            <a:ext cx="78562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5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Revue de direction annuelle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576"/>
                </a:solidFill>
                <a:latin typeface="Tahoma"/>
              </a:rPr>
              <a:t>Bilan sur les audits internes et externes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576"/>
                </a:solidFill>
                <a:latin typeface="Tahoma"/>
              </a:rPr>
              <a:t>Analyse des REX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576"/>
                </a:solidFill>
                <a:latin typeface="Tahoma"/>
              </a:rPr>
              <a:t>Bilan sur les formations sécurité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lvl="1" marL="623880" indent="-266760">
              <a:spcBef>
                <a:spcPts val="300"/>
              </a:spcBef>
              <a:buClr>
                <a:srgbClr val="003576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576"/>
                </a:solidFill>
                <a:latin typeface="Tahoma"/>
              </a:rPr>
              <a:t>Bilan sur les exercices POI</a:t>
            </a:r>
            <a:endParaRPr b="0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576"/>
                </a:solidFill>
                <a:latin typeface="Tahoma"/>
              </a:rPr>
              <a:t>Compte-rendu envoyé à M. le Préfet fin mars 2013</a:t>
            </a: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576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297400" y="5326200"/>
            <a:ext cx="30402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d61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57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5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5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9:20:08Z</dcterms:created>
  <dc:creator>Utilisateur Windows</dc:creator>
  <dc:description/>
  <dc:language>en-US</dc:language>
  <cp:lastModifiedBy>helene.copin</cp:lastModifiedBy>
  <dcterms:modified xsi:type="dcterms:W3CDTF">2013-05-27T14:39:44Z</dcterms:modified>
  <cp:revision>69</cp:revision>
  <dc:subject/>
  <dc:title>Diapositive 1</dc:title>
</cp:coreProperties>
</file>